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15B4-120E-4700-8260-54678BE1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1E8-2232-4978-84D8-E2F6D2E1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C85-57C2-4CF0-8066-D806A646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0601-6298-4B4C-B406-B5F29E9C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95DA-A67E-4C4C-918F-5B1C6572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46D0-F928-49FC-A1EE-2DC90259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F2DD-AACB-414E-9BDE-B5A87106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234F-366D-4DAE-986B-10BCD64E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8C68-3DD4-418A-BB51-F38239CF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7BB2-EFC6-41C5-82B1-A2C88CEA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DC05-F006-4DC8-8A29-5DB9BED5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C411-49DA-4D5F-83B0-B7DBB4DB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1116-CAB0-470B-BEC8-F61C7E76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1207-8FD5-48CB-8C29-1AF18428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F00E-9157-47EF-AA16-5EEE25A8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2519-34D1-4719-8F60-3784B47F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9793-4D58-4113-BE09-1A0ADAEB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6D0-3AD0-4AA0-A467-A935016E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49F4-8C44-4931-BBC5-0AACBA70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39E-4EBF-440F-8254-2FF1E653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56B1-D5A0-42E6-B804-D7F679DB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0366-CE47-40E3-9DB1-4D78B446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F369-0B2E-4700-9638-30C1092E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4EE-EAFA-4AF6-BDC8-D9141256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CC33-0889-49FF-90A3-5452AD87C5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4ED0-1F42-40C4-88E1-F8E19A21F4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981080" y="1523880"/>
            <a:ext cx="5410440" cy="3962520"/>
            <a:chOff x="1981080" y="1523880"/>
            <a:chExt cx="5410440" cy="3962520"/>
          </a:xfrm>
        </p:grpSpPr>
        <p:sp>
          <p:nvSpPr>
            <p:cNvPr id="95" name=""/>
            <p:cNvSpPr/>
            <p:nvPr/>
          </p:nvSpPr>
          <p:spPr>
            <a:xfrm>
              <a:off x="1981080" y="1523880"/>
              <a:ext cx="5410440" cy="3962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24280" y="1523880"/>
              <a:ext cx="0" cy="39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81080" y="3581280"/>
              <a:ext cx="54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04812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914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2209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209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867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all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5867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all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304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 X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hybrid Cro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hybr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tween individuals with two pairs of trai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3231"/>
          <a:stretch/>
        </p:blipFill>
        <p:spPr>
          <a:xfrm>
            <a:off x="1219320" y="2590920"/>
            <a:ext cx="662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hybrid Cross Ru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figure out what the gametes are that the parents can make. Use the 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FO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 to do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aB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   </a:t>
            </a:r>
            <a:r>
              <a:rPr b="0" lang="en-US" sz="3200" spc="-1" strike="noStrike">
                <a:solidFill>
                  <a:srgbClr val="d9d8ec"/>
                </a:solidFill>
                <a:latin typeface="Arial"/>
              </a:rPr>
              <a:t>Aa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B, Ab, aB, a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3200" spc="-1" strike="noStrike">
                <a:solidFill>
                  <a:srgbClr val="d9d8ec"/>
                </a:solidFill>
                <a:latin typeface="Arial"/>
              </a:rPr>
              <a:t>AB, Ab, aB,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place the gametes along the top and sides of the square and do the cro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rcRect l="0" t="0" r="0" b="4876"/>
          <a:stretch/>
        </p:blipFill>
        <p:spPr>
          <a:xfrm>
            <a:off x="762120" y="1523880"/>
            <a:ext cx="7772400" cy="2971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rcRect l="0" t="0" r="0" b="4623"/>
          <a:stretch/>
        </p:blipFill>
        <p:spPr>
          <a:xfrm>
            <a:off x="3200400" y="4495680"/>
            <a:ext cx="2619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hybrid Cro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43000" y="2057400"/>
          <a:ext cx="7772400" cy="45306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3048120" y="17524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tes from Parent One (Fem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2000" y="2819520"/>
            <a:ext cx="91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tes from Parent Two (M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ultiple Alle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alleles exist for a 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295280" y="2174760"/>
            <a:ext cx="60962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x Influenced Trai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ts expressed differently in males and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bal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4038480"/>
            <a:ext cx="701064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47242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54100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8108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4038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4038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56386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43434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Bb                     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50292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ba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not b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3720" y="5562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not ba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not b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981080" y="1523880"/>
            <a:ext cx="5410440" cy="3962520"/>
            <a:chOff x="1981080" y="1523880"/>
            <a:chExt cx="5410440" cy="3962520"/>
          </a:xfrm>
        </p:grpSpPr>
        <p:sp>
          <p:nvSpPr>
            <p:cNvPr id="110" name=""/>
            <p:cNvSpPr/>
            <p:nvPr/>
          </p:nvSpPr>
          <p:spPr>
            <a:xfrm>
              <a:off x="1981080" y="1523880"/>
              <a:ext cx="5410440" cy="3962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24280" y="1523880"/>
              <a:ext cx="0" cy="39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81080" y="3581280"/>
              <a:ext cx="54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4812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914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209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867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1AA:1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5867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all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304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 X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981080" y="1523880"/>
            <a:ext cx="5410440" cy="3962520"/>
            <a:chOff x="1981080" y="1523880"/>
            <a:chExt cx="5410440" cy="3962520"/>
          </a:xfrm>
        </p:grpSpPr>
        <p:sp>
          <p:nvSpPr>
            <p:cNvPr id="125" name=""/>
            <p:cNvSpPr/>
            <p:nvPr/>
          </p:nvSpPr>
          <p:spPr>
            <a:xfrm>
              <a:off x="1981080" y="1523880"/>
              <a:ext cx="5410440" cy="3962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1523880"/>
              <a:ext cx="0" cy="39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81080" y="3581280"/>
              <a:ext cx="54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04812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914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209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2209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412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5867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all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5867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all show dominant tr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304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 X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1981080" y="1523880"/>
            <a:ext cx="5410440" cy="3962520"/>
            <a:chOff x="1981080" y="1523880"/>
            <a:chExt cx="5410440" cy="3962520"/>
          </a:xfrm>
        </p:grpSpPr>
        <p:sp>
          <p:nvSpPr>
            <p:cNvPr id="140" name=""/>
            <p:cNvSpPr/>
            <p:nvPr/>
          </p:nvSpPr>
          <p:spPr>
            <a:xfrm>
              <a:off x="1981080" y="1523880"/>
              <a:ext cx="5410440" cy="3962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24280" y="1523880"/>
              <a:ext cx="0" cy="39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1080" y="3581280"/>
              <a:ext cx="54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04812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914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2209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867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1 AA:2Aa:1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867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3 not red:1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304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 X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3581280"/>
            <a:ext cx="266724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456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981080" y="1523880"/>
            <a:ext cx="5410440" cy="3962520"/>
            <a:chOff x="1981080" y="1523880"/>
            <a:chExt cx="5410440" cy="3962520"/>
          </a:xfrm>
        </p:grpSpPr>
        <p:sp>
          <p:nvSpPr>
            <p:cNvPr id="157" name=""/>
            <p:cNvSpPr/>
            <p:nvPr/>
          </p:nvSpPr>
          <p:spPr>
            <a:xfrm>
              <a:off x="1981080" y="1523880"/>
              <a:ext cx="541044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24280" y="1523880"/>
              <a:ext cx="0" cy="39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81080" y="3581280"/>
              <a:ext cx="54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04812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914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2209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2209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5867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1 Aa:1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5867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1 red: 1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304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 X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1523880"/>
            <a:ext cx="2743200" cy="2057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3581280"/>
            <a:ext cx="2743200" cy="1905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2430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1981080" y="1523880"/>
            <a:ext cx="5410440" cy="3962520"/>
            <a:chOff x="1981080" y="1523880"/>
            <a:chExt cx="5410440" cy="3962520"/>
          </a:xfrm>
        </p:grpSpPr>
        <p:sp>
          <p:nvSpPr>
            <p:cNvPr id="175" name=""/>
            <p:cNvSpPr/>
            <p:nvPr/>
          </p:nvSpPr>
          <p:spPr>
            <a:xfrm>
              <a:off x="1981080" y="1523880"/>
              <a:ext cx="541044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24280" y="1523880"/>
              <a:ext cx="0" cy="39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3581280"/>
              <a:ext cx="54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04812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914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2209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2209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867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all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5867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enoty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: all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304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 X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plete Dominance vs. Incomplete Domin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raits displa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lete 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esence of one dominant allele masks the recessive alle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raits displa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complete dominanc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terozygous condition results in a separate phenotype, neither allele is completely dominant-they blend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some flowers, AA is red, Aa is pink, and aa is whi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57200" y="274320"/>
            <a:ext cx="822960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domin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raits are controll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min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th alleles for a gene are expressed in heterozygous offspr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ither allele is dominant or recessive, nor do they blend; each is expressed equally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best example of this is in a horse’s coat color; heterozygous = roan color where they have both white and red hair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22:43:17Z</dcterms:created>
  <dc:creator>Tricia</dc:creator>
  <dc:description/>
  <dc:language>en-US</dc:language>
  <cp:lastModifiedBy>Tricia</cp:lastModifiedBy>
  <dcterms:modified xsi:type="dcterms:W3CDTF">2007-02-23T16:50:04Z</dcterms:modified>
  <cp:revision>4</cp:revision>
  <dc:subject/>
  <dc:title>Slide 1</dc:title>
</cp:coreProperties>
</file>